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7.jpeg" ContentType="image/jpeg"/>
  <Override PartName="/ppt/media/image28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4.wmf" ContentType="image/x-wmf"/>
  <Override PartName="/ppt/media/image27.wmf" ContentType="image/x-wmf"/>
  <Override PartName="/ppt/media/image20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7F2-D78C-4AE4-9558-78E950E2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520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AF8-AEB4-421A-8CEB-BAF346A2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FD6-FC89-448C-8BB1-FFFF599F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52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52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52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2E3-C095-4A5E-90A4-2098564F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4F84-F24E-4026-9B94-ED9C79AD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508B-5212-4249-B588-B0EABB9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F2E8-34DB-4689-B943-82A215EA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FE5E-0049-4A6C-A2EB-62DC1C05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42CA-7AC0-4A56-B683-4A7EB89F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AE97-F9FF-4AAD-B7C8-5CBAB9C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6581-25D0-4362-8290-A46E02F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633-C73B-45A0-9F75-2F6997B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BBD5-45F2-498E-94E8-F90B3D6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9520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2FC0-EAF7-4228-B585-5A8769C6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9520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B159-3573-4807-AC92-A887BAF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BAD-21F8-49D1-A5D6-89C50019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952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952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952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375-F89C-4887-8E77-BF429FAC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C2A-B98C-4426-9897-2C2D387D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7B7-C53D-4A03-9E49-1F2A93E5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114-AA67-4A87-9749-8EA6D4C3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990720"/>
            <a:ext cx="8839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9E5-D25C-4268-AC9A-716CA90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DAB-E32B-4B44-B7A9-82B5545A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52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1B8-ECDE-4D0D-ACE4-202337B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520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6AE-BAEF-49EA-901D-E503E1A6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7cd9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25AE-6B80-461A-86D7-1A11407ADBB6}" type="slidenum">
              <a:rPr b="0" lang="ru-RU" sz="1400" spc="-1" strike="noStrike">
                <a:solidFill>
                  <a:srgbClr val="d7cd9d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6931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3A99-C026-4A87-A295-12535CED5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59092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3a00"/>
                </a:solidFill>
                <a:latin typeface="Europe_Ext"/>
              </a:rPr>
              <a:t>НАИМЕНОВАНИЕ И КОНЦЕПЦИЯ ПРОДВИЖЕНИЯ НОВОГО АВТОМОБИ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53280" y="1066680"/>
            <a:ext cx="0" cy="4419720"/>
          </a:xfrm>
          <a:prstGeom prst="line">
            <a:avLst/>
          </a:prstGeom>
          <a:ln w="3816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800600"/>
            <a:ext cx="8153280" cy="0"/>
          </a:xfrm>
          <a:prstGeom prst="line">
            <a:avLst/>
          </a:prstGeom>
          <a:ln w="3816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Технические характеристики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ип кузова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– 5-ти дверный универса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наряженная масса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2070 кг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лная масса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– 2670 кг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местимость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– 5 человек  (+ 4 в случае установки дополнительных сидений 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575080"/>
            <a:ext cx="198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Габаритные разме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3163" descr=""/>
          <p:cNvPicPr/>
          <p:nvPr/>
        </p:nvPicPr>
        <p:blipFill>
          <a:blip r:embed="rId1"/>
          <a:stretch/>
        </p:blipFill>
        <p:spPr>
          <a:xfrm>
            <a:off x="6324480" y="3962520"/>
            <a:ext cx="2819520" cy="178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79200" y="2924280"/>
          <a:ext cx="6175440" cy="309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00" y="2924280"/>
                    <a:ext cx="6175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264-8715-4B12-B54F-8D69A28A6F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Технические характеристики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508040"/>
            <a:ext cx="76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вигатель – ЗМЗ 4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1080" y="1819440"/>
          <a:ext cx="59148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819440"/>
                    <a:ext cx="59148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96252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робка передач –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еханическая 5-ти ступенчат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здаточная коробка –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2-х ступенчат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даточные числа: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- 1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II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1,95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вод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постояный задний с жестко подключаемым передним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ксплуатационные показатели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аксимальная скорость – 150 км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ч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Расход топлива , л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100км. город \ трасса \ смешанный. – 14,0 \ 10,4 \ 13,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Емкость топливного бака, л – 87 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Тип топлива – бензин АИ-92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772320" y="1676520"/>
          <a:ext cx="183816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2320" y="1676520"/>
                    <a:ext cx="18381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1A3-2A41-437B-AB10-0FC9062D4C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веска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едняя –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зависимая, пружинная со стабилизатором поперечной устойчивости, гидропневматическим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мортизаторами телескопического типа двухстороннего действия, с двумя продольными рычагам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и поперечной тяго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няя –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зависимая, на двух продольных полуэллиптических малолистовых рессорах и гидропневматических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мортизаторах телескопического типа двухстороннего действ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ормоза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едние –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исковые вентилируемые, с двумя цилиндрами, с плавающей скобо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н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–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барабанного типа, с одним цилиндром, с автоматическим регулированием  зазора между накладками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и барабаном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улевое управление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травмобезопасное, с регулируемой рулевой колонко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тип рулевого механизма – «Винт-шариковая гайка-сектор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мплектация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Техническая информация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pic>
        <p:nvPicPr>
          <p:cNvPr id="140" name="3163-1" descr=""/>
          <p:cNvPicPr/>
          <p:nvPr/>
        </p:nvPicPr>
        <p:blipFill>
          <a:blip r:embed="rId1"/>
          <a:stretch/>
        </p:blipFill>
        <p:spPr>
          <a:xfrm>
            <a:off x="6127920" y="4459320"/>
            <a:ext cx="3016080" cy="1789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2C2-6BDB-41AF-ABDA-80F753ACA3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3163%20сбоку%20" descr=""/>
          <p:cNvPicPr/>
          <p:nvPr/>
        </p:nvPicPr>
        <p:blipFill>
          <a:blip r:embed="rId1"/>
          <a:stretch/>
        </p:blipFill>
        <p:spPr>
          <a:xfrm>
            <a:off x="3206880" y="1174680"/>
            <a:ext cx="5632200" cy="2482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Габаритные размеры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pic>
        <p:nvPicPr>
          <p:cNvPr id="144" name="3163%20сверху" descr=""/>
          <p:cNvPicPr/>
          <p:nvPr/>
        </p:nvPicPr>
        <p:blipFill>
          <a:blip r:embed="rId2"/>
          <a:stretch/>
        </p:blipFill>
        <p:spPr>
          <a:xfrm>
            <a:off x="4121280" y="3594240"/>
            <a:ext cx="4671720" cy="2501640"/>
          </a:xfrm>
          <a:prstGeom prst="rect">
            <a:avLst/>
          </a:prstGeom>
          <a:ln w="0">
            <a:noFill/>
          </a:ln>
        </p:spPr>
      </p:pic>
      <p:pic>
        <p:nvPicPr>
          <p:cNvPr id="145" name="3163%20спереди" descr=""/>
          <p:cNvPicPr/>
          <p:nvPr/>
        </p:nvPicPr>
        <p:blipFill>
          <a:blip r:embed="rId3"/>
          <a:stretch/>
        </p:blipFill>
        <p:spPr>
          <a:xfrm>
            <a:off x="685800" y="1355760"/>
            <a:ext cx="2284560" cy="2502000"/>
          </a:xfrm>
          <a:prstGeom prst="rect">
            <a:avLst/>
          </a:prstGeom>
          <a:ln w="0">
            <a:noFill/>
          </a:ln>
        </p:spPr>
      </p:pic>
      <p:pic>
        <p:nvPicPr>
          <p:cNvPr id="146" name="3163%20сзади" descr=""/>
          <p:cNvPicPr/>
          <p:nvPr/>
        </p:nvPicPr>
        <p:blipFill>
          <a:blip r:embed="rId4"/>
          <a:stretch/>
        </p:blipFill>
        <p:spPr>
          <a:xfrm>
            <a:off x="685800" y="3718080"/>
            <a:ext cx="2424240" cy="2501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FE9-4426-429D-BE5B-660B3BDC8C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438280" y="25146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600"/>
                </a:solidFill>
                <a:latin typeface="Arial"/>
              </a:rPr>
              <a:t>НОВЫЕ КОРПОРАТИВНЫЕ ЦВ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1676520"/>
            <a:ext cx="0" cy="3124080"/>
          </a:xfrm>
          <a:prstGeom prst="line">
            <a:avLst/>
          </a:prstGeom>
          <a:ln w="1908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886200"/>
            <a:ext cx="6705720" cy="0"/>
          </a:xfrm>
          <a:prstGeom prst="line">
            <a:avLst/>
          </a:prstGeom>
          <a:ln w="2844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EFD-0105-440C-8C9E-53BA2FEC3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_2" descr=""/>
          <p:cNvPicPr/>
          <p:nvPr/>
        </p:nvPicPr>
        <p:blipFill>
          <a:blip r:embed="rId1"/>
          <a:stretch/>
        </p:blipFill>
        <p:spPr>
          <a:xfrm>
            <a:off x="4724280" y="1922400"/>
            <a:ext cx="4419720" cy="973080"/>
          </a:xfrm>
          <a:prstGeom prst="rect">
            <a:avLst/>
          </a:prstGeom>
          <a:ln w="0">
            <a:noFill/>
          </a:ln>
        </p:spPr>
      </p:pic>
      <p:pic>
        <p:nvPicPr>
          <p:cNvPr id="153" name="_31" descr=""/>
          <p:cNvPicPr/>
          <p:nvPr/>
        </p:nvPicPr>
        <p:blipFill>
          <a:blip r:embed="rId2"/>
          <a:stretch/>
        </p:blipFill>
        <p:spPr>
          <a:xfrm>
            <a:off x="5562720" y="3870360"/>
            <a:ext cx="3276360" cy="1299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Новые корпоратив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1240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a49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4705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«Болотно-песочная» гамма органично поддерживает смысловое значение слогана «Природа Движения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UAZ%20ND" descr=""/>
          <p:cNvPicPr/>
          <p:nvPr/>
        </p:nvPicPr>
        <p:blipFill>
          <a:blip r:embed="rId3"/>
          <a:stretch/>
        </p:blipFill>
        <p:spPr>
          <a:xfrm>
            <a:off x="628560" y="4038480"/>
            <a:ext cx="3029040" cy="1063800"/>
          </a:xfrm>
          <a:prstGeom prst="rect">
            <a:avLst/>
          </a:prstGeom>
          <a:ln w="0">
            <a:noFill/>
          </a:ln>
        </p:spPr>
      </p:pic>
      <p:pic>
        <p:nvPicPr>
          <p:cNvPr id="158" name="Bird%20B" descr=""/>
          <p:cNvPicPr/>
          <p:nvPr/>
        </p:nvPicPr>
        <p:blipFill>
          <a:blip r:embed="rId4"/>
          <a:stretch/>
        </p:blipFill>
        <p:spPr>
          <a:xfrm>
            <a:off x="0" y="1920960"/>
            <a:ext cx="2120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133720" y="1905120"/>
            <a:ext cx="2133360" cy="990360"/>
            <a:chOff x="2133720" y="1905120"/>
            <a:chExt cx="2133360" cy="990360"/>
          </a:xfrm>
        </p:grpSpPr>
        <p:sp>
          <p:nvSpPr>
            <p:cNvPr id="160" name=""/>
            <p:cNvSpPr/>
            <p:nvPr/>
          </p:nvSpPr>
          <p:spPr>
            <a:xfrm>
              <a:off x="2133720" y="1905120"/>
              <a:ext cx="213336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UAZ%20rus" descr=""/>
            <p:cNvPicPr/>
            <p:nvPr/>
          </p:nvPicPr>
          <p:blipFill>
            <a:blip r:embed="rId5"/>
            <a:stretch/>
          </p:blipFill>
          <p:spPr>
            <a:xfrm>
              <a:off x="2544840" y="2084400"/>
              <a:ext cx="1417680" cy="81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BFA-A7BC-44E1-9F19-DD764AC99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19520" y="25146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600"/>
                </a:solidFill>
                <a:latin typeface="Arial"/>
              </a:rPr>
              <a:t>СТАНДАРТЫ ДИЛЕРСКОГО ЦЕНТ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1676520"/>
            <a:ext cx="0" cy="3124080"/>
          </a:xfrm>
          <a:prstGeom prst="line">
            <a:avLst/>
          </a:prstGeom>
          <a:ln w="1908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3886200"/>
            <a:ext cx="6705720" cy="0"/>
          </a:xfrm>
          <a:prstGeom prst="line">
            <a:avLst/>
          </a:prstGeom>
          <a:ln w="2844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EFF-8F1E-4191-8F98-9C8E35E8C8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2568240"/>
            <a:ext cx="25146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Рост требований потребителей к качеству обслуживания в дилерских центрах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Репозиционирование брэнда УАЗ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Вывод на рынок новых продуктов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Стандарты авторизованного дилерского центра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pic>
        <p:nvPicPr>
          <p:cNvPr id="169" name="рисунок%201a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6248520" cy="3737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25C-5ADF-4B87-8E33-8835017522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%202a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5715000" cy="3851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05280" y="1646280"/>
            <a:ext cx="9448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Дилерский центр обязательно должен включать автосалон, магазин по продаже запасных частей, станцию технического обслуживания и парковку для клиентов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6931"/>
                </a:solidFill>
                <a:latin typeface="Arial Black"/>
              </a:rPr>
              <a:t>Стандарты авторизованного дилерского центра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209680"/>
            <a:ext cx="38124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2817360"/>
            <a:ext cx="54100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Зал демонстрации автомоби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агазин запасных ча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иагностический п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Ремонтная мастерск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Участок предпродажной подготов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Раздевал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Комната отдыха 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фисные поме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арковка автомобилей клиен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арковка автомобилей клиентов С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арковка автомобилей сотрудников АД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146-A57D-4E36-96C3-BD2048224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%203a" descr=""/>
          <p:cNvPicPr/>
          <p:nvPr/>
        </p:nvPicPr>
        <p:blipFill>
          <a:blip r:embed="rId1"/>
          <a:stretch/>
        </p:blipFill>
        <p:spPr>
          <a:xfrm>
            <a:off x="0" y="210492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1370160"/>
            <a:ext cx="8991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Дилерский центр необходимо располагать на оживленной трассе и оформлять его в строгом соответствии с фирменным стилем. Здание Дилерского центра должно быть окрашено в бежевый, белый или светло-серый цвет и обозначено обязательными элементами корпоративной визуальной идентификации.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6931"/>
                </a:solidFill>
                <a:latin typeface="Arial Black"/>
              </a:rPr>
              <a:t>Стандарты авторизованного дилерского центра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4220640"/>
            <a:ext cx="472428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Фр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Рекламно-информационная стел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Входной порта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Корпоративные фла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Указатель въез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Короб информационный для обозначения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сервисных служ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Указатель движения по территории АД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846-41C4-41B1-A0C5-C24146E01D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600"/>
                </a:solidFill>
                <a:latin typeface="Europe_Ext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04880"/>
            <a:ext cx="685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зиционирование автомоби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именование автомоби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ехнические характеристики автомоби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вые корпоратив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тандарты Авторизованного дилерского цен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истема прод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19520" y="2971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600"/>
                </a:solidFill>
                <a:latin typeface="Arial"/>
              </a:rPr>
              <a:t>СИСТЕМА ПРОД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1676520"/>
            <a:ext cx="0" cy="3124080"/>
          </a:xfrm>
          <a:prstGeom prst="line">
            <a:avLst/>
          </a:prstGeom>
          <a:ln w="1908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886200"/>
            <a:ext cx="6705720" cy="0"/>
          </a:xfrm>
          <a:prstGeom prst="line">
            <a:avLst/>
          </a:prstGeom>
          <a:ln w="2844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6A3-A872-4F75-AE49-3EED8CBBFC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6320" y="1828080"/>
            <a:ext cx="5867280" cy="40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35000"/>
              </a:lnSpc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дноуровневая система продаж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135000"/>
              </a:lnSpc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астичная компенсация затрат Дилеров на продвижение </a:t>
            </a:r>
            <a:r>
              <a:rPr b="0" lang="en-US" sz="2400" spc="-1" strike="noStrike">
                <a:solidFill>
                  <a:srgbClr val="000000"/>
                </a:solidFill>
                <a:latin typeface="Europe_Ext"/>
              </a:rPr>
              <a:t>UAZ Patrio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135000"/>
              </a:lnSpc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удит качества обслуживания потребителей в Дилерских центрах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135000"/>
              </a:lnSpc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ценка удовлетворенности потребителе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13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13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Система продаж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pic>
        <p:nvPicPr>
          <p:cNvPr id="188" name="BD04972_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3048120" cy="2284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31E-2393-4109-AB53-5CF7A5B6B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38C-7322-4EFB-B1F7-5AD52B2E46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28335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600"/>
                </a:solidFill>
                <a:latin typeface="Arial"/>
              </a:rPr>
              <a:t>ПОЗИЦИО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1676520"/>
            <a:ext cx="0" cy="3124080"/>
          </a:xfrm>
          <a:prstGeom prst="line">
            <a:avLst/>
          </a:prstGeom>
          <a:ln w="1908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886200"/>
            <a:ext cx="6705720" cy="0"/>
          </a:xfrm>
          <a:prstGeom prst="line">
            <a:avLst/>
          </a:prstGeom>
          <a:ln w="2844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B72-9475-4FD3-ACD6-DD596FA330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6931"/>
                </a:solidFill>
                <a:latin typeface="Arial Black"/>
              </a:rPr>
              <a:t>Динамика продаж внедорожников</a:t>
            </a:r>
            <a:r>
              <a:rPr b="0" lang="en-US" sz="1800" spc="-1" strike="noStrike">
                <a:solidFill>
                  <a:srgbClr val="4a693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4a6931"/>
                </a:solidFill>
                <a:latin typeface="Arial Black"/>
              </a:rPr>
              <a:t>в ценовом сегменте </a:t>
            </a:r>
            <a:r>
              <a:rPr b="0" lang="en-US" sz="1800" spc="-1" strike="noStrike">
                <a:solidFill>
                  <a:srgbClr val="4a6931"/>
                </a:solidFill>
                <a:latin typeface="Arial Black"/>
              </a:rPr>
              <a:t>$</a:t>
            </a:r>
            <a:r>
              <a:rPr b="0" lang="ru-RU" sz="1800" spc="-1" strike="noStrike">
                <a:solidFill>
                  <a:srgbClr val="4a6931"/>
                </a:solidFill>
                <a:latin typeface="Arial Black"/>
              </a:rPr>
              <a:t>9</a:t>
            </a:r>
            <a:r>
              <a:rPr b="0" lang="en-US" sz="1800" spc="-1" strike="noStrike">
                <a:solidFill>
                  <a:srgbClr val="4a6931"/>
                </a:solidFill>
                <a:latin typeface="Arial Black"/>
              </a:rPr>
              <a:t>-20 </a:t>
            </a:r>
            <a:r>
              <a:rPr b="0" lang="ru-RU" sz="1800" spc="-1" strike="noStrike">
                <a:solidFill>
                  <a:srgbClr val="4a6931"/>
                </a:solidFill>
                <a:latin typeface="Arial Black"/>
              </a:rPr>
              <a:t>тыс.</a:t>
            </a:r>
            <a:endParaRPr b="0" lang="en-US" sz="1800" spc="-1" strike="noStrike">
              <a:solidFill>
                <a:srgbClr val="4a6931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90720" y="3611520"/>
          <a:ext cx="619128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611520"/>
                    <a:ext cx="619128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52280" y="13716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бъем продаж, тыс.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7339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бъем продаж,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31920" y="594360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vrolet-Niva, Kia Spor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2081160"/>
            <a:ext cx="152424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ер – сегмент новых а/м иностранных брендов. Рост продаж связан с появлением предложения а/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vrolet-Niv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льны позиции подержанных внедорож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6288120" cy="25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272736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211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28600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437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5238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43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0D9-7AC6-4736-B85B-FE7D6EE730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14520"/>
            <a:ext cx="9144000" cy="47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циально демографические характеристики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ужчины, возраст –  25-40 ле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Ежемесячный доход – от 1500$/месяц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Место жительства – город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оциальный статус – руководитель среднего звена, ведущие специалисты,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владелец собственного бизнес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Владельцы отечественных автомобилей (ВАЗ, ГАЗ),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evrolet Niva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и подержанные внедорожник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сихотип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Независимые, Динамичные, Активные,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Увлеченны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Умеют ценить и планировать свое врем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Для них важно самовыражени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бодное время, увлеч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едпочитают активный отдых вне дома, занимаются спортом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любят проводить свободное время в компании друзе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во время отпуска путешествуют (часто на автомобиле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обенности восприятия автомобиля: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Автомобиль, соответствующий жизненной позиции владельца, позволяющий реализовать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его желания и побуждения в любое время и в любом месте. Автомобиль – отражение стиля жизни владельца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сновные параметры идеального автомобил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красивый, большой, удобный, функциональный, безопасный, мощный и надежный внедорожник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75960" y="106668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Целевой сегмент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pic>
        <p:nvPicPr>
          <p:cNvPr id="105" name="BD06784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15080" y="1143000"/>
            <a:ext cx="2200320" cy="20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FA9-A39B-43B5-88B4-004611D37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Позиционирование</a:t>
            </a: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4a6931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4a6931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200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6931"/>
                </a:solidFill>
                <a:latin typeface="Arial Black"/>
              </a:rPr>
              <a:t>ЖИЗНЬ В ДВИЖ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929040"/>
            <a:ext cx="228600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1059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опасный, вместительный, надеж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643040"/>
            <a:ext cx="228600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1059"/>
                </a:solidFill>
                <a:latin typeface="Arial"/>
              </a:rPr>
              <a:t>БИЗН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ивый, комфортный, динами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038480"/>
            <a:ext cx="274320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1059"/>
                </a:solidFill>
                <a:latin typeface="Arial"/>
              </a:rPr>
              <a:t>ОТД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имый, многофункциональный, мощ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24240" y="3678120"/>
            <a:ext cx="2252880" cy="193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8440" y="2523960"/>
            <a:ext cx="2340000" cy="137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64000" y="1628640"/>
            <a:ext cx="1800360" cy="15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ACF-04A2-459B-A05A-A043E0101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59092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600"/>
                </a:solidFill>
                <a:latin typeface="Arial"/>
              </a:rPr>
              <a:t>НАИМЕНОВАНИЕ АВТОМОБИ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1676520"/>
            <a:ext cx="0" cy="3124080"/>
          </a:xfrm>
          <a:prstGeom prst="line">
            <a:avLst/>
          </a:prstGeom>
          <a:ln w="1908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3886200"/>
            <a:ext cx="6705720" cy="0"/>
          </a:xfrm>
          <a:prstGeom prst="line">
            <a:avLst/>
          </a:prstGeom>
          <a:ln w="2844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829-7830-4DCF-9E8C-90A8806367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001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320" y="1020600"/>
            <a:ext cx="5333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6931"/>
                </a:solidFill>
                <a:latin typeface="Europe_Ext"/>
              </a:rPr>
              <a:t>UAZ PATRI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061-51AE-40E9-9179-9388D62A04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19520" y="259092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600"/>
                </a:solidFill>
                <a:latin typeface="Arial"/>
              </a:rPr>
              <a:t>ТЕХН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1676520"/>
            <a:ext cx="0" cy="3124080"/>
          </a:xfrm>
          <a:prstGeom prst="line">
            <a:avLst/>
          </a:prstGeom>
          <a:ln w="1908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886200"/>
            <a:ext cx="6705720" cy="0"/>
          </a:xfrm>
          <a:prstGeom prst="line">
            <a:avLst/>
          </a:prstGeom>
          <a:ln w="28440">
            <a:solidFill>
              <a:srgbClr val="1d3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3040" y="266400"/>
            <a:ext cx="292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7cd9d"/>
                </a:solidFill>
                <a:latin typeface="Europe_Ext"/>
              </a:rPr>
              <a:t>UAZ PATRI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C71-798A-4EA3-8BC2-1EC68F383A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0:48:42Z</dcterms:created>
  <dc:creator>фывапфы</dc:creator>
  <dc:description/>
  <dc:language>en-US</dc:language>
  <cp:lastModifiedBy>Hellander</cp:lastModifiedBy>
  <cp:lastPrinted>2003-10-13T11:03:30Z</cp:lastPrinted>
  <dcterms:modified xsi:type="dcterms:W3CDTF">2005-02-02T07:06:11Z</dcterms:modified>
  <cp:revision>109</cp:revision>
  <dc:subject/>
  <dc:title>Концепция построения системы стратегического планирования на ОАО «УАЗ». </dc:title>
</cp:coreProperties>
</file>